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24C-744F-49AF-8E00-2D5D0871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108-5A98-4A86-9E8E-B7338ED8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9F0-439B-4509-BB9B-D184E2A0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940-A197-4083-BEA5-B40F19C8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6A6-3CE1-4C08-89D7-F363C2F5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177-F7C2-4B56-909D-A18E076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3AA-9948-4EAC-9C1F-1B515BE0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448-7C8A-4D7D-BCF7-7985DE6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E10-94E4-4D5D-9091-8E07988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F8-79E3-452A-B7EC-1ABDE1C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33A-EBB3-4FC5-A352-7D28800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A90-0392-4363-B845-D70157B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14D-C74C-4166-B190-F5903097D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ele T\My Documents\My Pictures\plants and animals science\March0201.jp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1143000" y="228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Cooper Black"/>
              </a:rPr>
              <a:t>Life at the po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loud"/>
          <p:cNvSpPr/>
          <p:nvPr/>
        </p:nvSpPr>
        <p:spPr>
          <a:xfrm>
            <a:off x="0" y="4038480"/>
            <a:ext cx="3124080" cy="2600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44956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things do you think you would find in a 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Adele T\My Documents\My Pictures\plants and animals science\Tadpole5.jpg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2670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ele T\My Documents\My Pictures\plants and animals science\Tadpole12.jpg"/>
          <p:cNvPicPr/>
          <p:nvPr/>
        </p:nvPicPr>
        <p:blipFill>
          <a:blip r:embed="rId1"/>
          <a:stretch/>
        </p:blipFill>
        <p:spPr>
          <a:xfrm>
            <a:off x="1327320" y="2444760"/>
            <a:ext cx="648936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ele T\My Documents\My Pictures\plants and animals science\TadpoleShortLegs.jpg"/>
          <p:cNvPicPr/>
          <p:nvPr/>
        </p:nvPicPr>
        <p:blipFill>
          <a:blip r:embed="rId1"/>
          <a:stretch/>
        </p:blipFill>
        <p:spPr>
          <a:xfrm>
            <a:off x="393840" y="1333440"/>
            <a:ext cx="835632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ele T\My Documents\My Pictures\plants and animals science\Legs3.jpg"/>
          <p:cNvPicPr/>
          <p:nvPr/>
        </p:nvPicPr>
        <p:blipFill>
          <a:blip r:embed="rId1"/>
          <a:stretch/>
        </p:blipFill>
        <p:spPr>
          <a:xfrm>
            <a:off x="895320" y="1701720"/>
            <a:ext cx="7353360" cy="345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85800" y="228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ff"/>
                </a:solidFill>
                <a:latin typeface="Comic Sans MS"/>
              </a:rPr>
              <a:t>What has happened to the tadp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ele T\My Documents\My Pictures\plants and animals science\FrontLeg.jpg"/>
          <p:cNvPicPr/>
          <p:nvPr/>
        </p:nvPicPr>
        <p:blipFill>
          <a:blip r:embed="rId1"/>
          <a:stretch/>
        </p:blipFill>
        <p:spPr>
          <a:xfrm>
            <a:off x="1022400" y="1631880"/>
            <a:ext cx="7099200" cy="3594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ele T\My Documents\My Pictures\plants and animals science\Frog.jpg"/>
          <p:cNvPicPr/>
          <p:nvPr/>
        </p:nvPicPr>
        <p:blipFill>
          <a:blip r:embed="rId1"/>
          <a:stretch/>
        </p:blipFill>
        <p:spPr>
          <a:xfrm>
            <a:off x="1085760" y="762120"/>
            <a:ext cx="6972480" cy="533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Goudy Stout"/>
              </a:rPr>
              <a:t>What is the tadpole beginning to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ele T\My Documents\My Pictures\plants and animals science\Froglets.jpg"/>
          <p:cNvPicPr/>
          <p:nvPr/>
        </p:nvPicPr>
        <p:blipFill>
          <a:blip r:embed="rId1"/>
          <a:stretch/>
        </p:blipFill>
        <p:spPr>
          <a:xfrm>
            <a:off x="1460520" y="1733400"/>
            <a:ext cx="6222960" cy="339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ele T\My Documents\My Pictures\plants and animals science\July0402.jpg"/>
          <p:cNvPicPr/>
          <p:nvPr/>
        </p:nvPicPr>
        <p:blipFill>
          <a:blip r:embed="rId1"/>
          <a:stretch/>
        </p:blipFill>
        <p:spPr>
          <a:xfrm>
            <a:off x="1650960" y="1365120"/>
            <a:ext cx="5842080" cy="4127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"/>
          <p:cNvSpPr/>
          <p:nvPr/>
        </p:nvSpPr>
        <p:spPr>
          <a:xfrm>
            <a:off x="152280" y="228600"/>
            <a:ext cx="3657600" cy="2209680"/>
          </a:xfrm>
          <a:prstGeom prst="wedgeRoundRectCallout">
            <a:avLst>
              <a:gd name="adj1" fmla="val 51694"/>
              <a:gd name="adj2" fmla="val 7097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5335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Comic Sans MS"/>
              </a:rPr>
              <a:t>I hope you enjoyed the show all about my life. What things can you reme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ele T\My Documents\My Pictures\plants and animals science\frogspawn_456x352.jpg"/>
          <p:cNvPicPr/>
          <p:nvPr/>
        </p:nvPicPr>
        <p:blipFill>
          <a:blip r:embed="rId1"/>
          <a:stretch/>
        </p:blipFill>
        <p:spPr>
          <a:xfrm>
            <a:off x="1965240" y="1417680"/>
            <a:ext cx="5211720" cy="4022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/>
          <p:cNvSpPr/>
          <p:nvPr/>
        </p:nvSpPr>
        <p:spPr>
          <a:xfrm>
            <a:off x="6477120" y="380880"/>
            <a:ext cx="2438280" cy="3505320"/>
          </a:xfrm>
          <a:prstGeom prst="wedgeRoundRectCallout">
            <a:avLst>
              <a:gd name="adj1" fmla="val -80662"/>
              <a:gd name="adj2" fmla="val 27217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705720" y="685800"/>
            <a:ext cx="205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Demi"/>
              </a:rPr>
              <a:t>These are my babies. They are like eggs but have a special name. Do you know what they are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ele T\My Documents\My Pictures\plants and animals science\Frogspawn_closeup.jpg"/>
          <p:cNvPicPr/>
          <p:nvPr/>
        </p:nvPicPr>
        <p:blipFill>
          <a:blip r:embed="rId1"/>
          <a:stretch/>
        </p:blipFill>
        <p:spPr>
          <a:xfrm>
            <a:off x="343080" y="19044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Documents and Settings\Adele T\My Documents\My Pictures\plants and animals science\Frogspawn1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Adele T\My Documents\My Pictures\plants and animals science\frogspawn3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14400" y="228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cc33"/>
                </a:solidFill>
                <a:latin typeface="Tempus Sans ITC"/>
              </a:rPr>
              <a:t>DO YOU NOTICE ANY CHANG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ele T\My Documents\My Pictures\plants and animals science\frogspawn4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ele T\My Documents\My Pictures\plants and animals science\FeedingFrenzy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Adele T\My Documents\My Pictures\plants and animals science\Tadpole9.jpg"/>
          <p:cNvPicPr/>
          <p:nvPr/>
        </p:nvPicPr>
        <p:blipFill>
          <a:blip r:embed="rId1"/>
          <a:stretch/>
        </p:blipFill>
        <p:spPr>
          <a:xfrm>
            <a:off x="1866960" y="1568520"/>
            <a:ext cx="5410080" cy="3720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Adele T\My Documents\My Pictures\plants and animals science\Tadpole8.jpg"/>
          <p:cNvPicPr/>
          <p:nvPr/>
        </p:nvPicPr>
        <p:blipFill>
          <a:blip r:embed="rId1"/>
          <a:stretch/>
        </p:blipFill>
        <p:spPr>
          <a:xfrm>
            <a:off x="2647800" y="819000"/>
            <a:ext cx="3848400" cy="522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52280" y="533520"/>
            <a:ext cx="259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cc"/>
                </a:solidFill>
                <a:latin typeface="Arial Rounded MT Bold"/>
              </a:rPr>
              <a:t>Look closely at the tadpoles.What can you 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1:42:15Z</dcterms:created>
  <dc:creator>Gareth</dc:creator>
  <dc:description/>
  <dc:language>en-US</dc:language>
  <cp:lastModifiedBy>Laura McDow</cp:lastModifiedBy>
  <dcterms:modified xsi:type="dcterms:W3CDTF">2010-07-29T10:08:34Z</dcterms:modified>
  <cp:revision>4</cp:revision>
  <dc:subject/>
  <dc:title>PowerPoint Presentation</dc:title>
</cp:coreProperties>
</file>